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A03-A452-4BC6-AA5D-F8752B55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541-83CF-4E0C-B0DF-05513B38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66B-0FCE-42FE-9B4F-3C1384D3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4204-AA2E-415D-8008-71B3A2F9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5A42-D7BE-47B3-B692-4A6A3B6F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0B60-E86D-4BBD-97E0-8A2CC1AF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1ACA-16CE-4508-99DB-327D5D49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F8A8-D9C0-4979-94FE-33569EEA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23E9-05EB-4243-B4A0-51714A9A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F067-271C-4E9A-ABAE-6F187901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ED30-8881-48D2-AB86-11BD1F55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E48-B52F-47CB-BF0E-0A5F8E80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78FE-7111-4EB3-8831-4C74C2B6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D00F-A114-4D2A-99D7-53525455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EA4C-BF36-41D1-AA3A-D032D9BD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C23B-9E0B-4907-9EE7-A3BFF60C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0ED6-9D62-4A07-9EBD-F706A9CF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7FC2-5CCC-404E-B3C0-033FF768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5752-6A4A-4510-9C1B-F9BF940C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5E13-8A3A-4AB4-B98E-790BD01A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FA3-95B3-4280-8390-4C95FE74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B275-0DAB-4D61-B828-97FABD2F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F27F-F6DE-4C04-AD62-B1B3D8E8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B926-295C-45F6-87DF-C045D828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5B28-6BBD-4AAC-9A98-E8CA4C4936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90C1-FBC8-4E0C-B9AE-CAEF068AF2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Me llamo __________ Clase 6NH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La fecha es el 4 de abril del 201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Tahoma"/>
              </a:rPr>
              <a:t>Propósito # 50: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¿Tienes mascota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Tahoma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juga los verbos en el present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v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O: Copia y respo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jercicio 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R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Actividad Inici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1143000"/>
          <a:ext cx="9144000" cy="4375080"/>
        </p:xfrm>
        <a:graphic>
          <a:graphicData uri="http://schemas.openxmlformats.org/drawingml/2006/table">
            <a:tbl>
              <a:tblPr/>
              <a:tblGrid>
                <a:gridCol w="1600200"/>
                <a:gridCol w="1447920"/>
                <a:gridCol w="1600200"/>
                <a:gridCol w="1523880"/>
                <a:gridCol w="1371600"/>
                <a:gridCol w="1600200"/>
              </a:tblGrid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Be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Com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Abr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Viv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Ten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Él el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los ell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d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P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 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Historieta 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R22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P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 respo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istorieta 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R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P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 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istorieta 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R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Tarea # 5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3:16:58Z</dcterms:created>
  <dc:creator>Helen Zumaeta</dc:creator>
  <dc:description/>
  <dc:language>en-US</dc:language>
  <cp:lastModifiedBy>Helen Zumaeta</cp:lastModifiedBy>
  <dcterms:modified xsi:type="dcterms:W3CDTF">2012-04-04T19:26:13Z</dcterms:modified>
  <cp:revision>7</cp:revision>
  <dc:subject/>
  <dc:title>Me llamo __________ Clase 6NH La fecha es el 4 de abril del 2014</dc:title>
</cp:coreProperties>
</file>